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C04-5DF1-4645-B667-4C806F04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BA5-9014-4362-B7A5-62D48F6E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D4E-94DC-4A58-BE6A-5F981759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A3D-CD81-4D6A-8052-6D74CFCE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567-4C23-4A11-BCAF-F026F78E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DF0-76C6-461B-81AD-58B878CE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104-B065-48CB-A3E7-3775C427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5E4-E90E-43CB-8116-25CDF232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DF3-71BB-4A2F-8982-EF96D239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7E0-7D4C-453D-99B0-6DBDFB83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C54-B9ED-4B02-AB3A-AB65C5B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21B-9CF6-4F62-BA9B-05F60DE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11CC1-A16B-4BCB-B68D-6A219121F6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the Saviour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strength indeed is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weakness,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 in Me thine all in 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ы слаб в зем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ужайся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ужно, дам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now indeed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ower and Thin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change the leper’s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lt the heart of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во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ожет совер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ить ярмо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раны исц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thing go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by Thy grace to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wash my garments wh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lood of Calvary’s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ден я, чтоб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грех с меня 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before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in Him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my soul to sav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ps shall still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в о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д Ним я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овторя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мер за меня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7:41Z</dcterms:modified>
  <cp:revision>12</cp:revision>
  <dc:subject>Slavic hymnal Гимны веры христиан, hymn 857</dc:subject>
  <dc:title>Jesus Paid It All (I Hear the Saviour Say) / Спаситель говорит</dc:title>
</cp:coreProperties>
</file>